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A09-1402-4183-9F17-FF369B5E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FB5-38A2-4789-AE98-C29E8E3A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490-591C-4AFE-9325-28725D66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7CD-ABCA-470D-872F-7B6980E9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A30-9D9F-431F-8B07-595504E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B09-DFFB-42A9-B6E4-5478833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952-0980-4403-9256-9C6E39F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56F-EDE3-4BFD-AB60-778D0AB5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FBC-5797-405A-9C15-92B600C6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FB3-0C6C-4347-AF60-612D50A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401-F003-4D08-B93A-6EA0A301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53D-4B76-4EC4-B7C1-F056A14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822-B6CF-4582-AD93-45D753A2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014560" cy="4390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z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é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d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qu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s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h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n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640" y="4941360"/>
            <a:ext cx="2160360" cy="151164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3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5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cinq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6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soix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333360"/>
            <a:ext cx="2376720" cy="446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tre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4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quato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5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qui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7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8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9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dix-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333360"/>
            <a:ext cx="3168720" cy="446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0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 vin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1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 et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2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4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qu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6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7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8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9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vingt-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4941720"/>
            <a:ext cx="3168720" cy="158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0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soixante-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5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soixante-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0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quatre-vin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5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quatre-vingt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4941720"/>
            <a:ext cx="3349800" cy="12970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tre-vingt-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95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quatre-vingt-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00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2000" y="3809880"/>
            <a:ext cx="819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" y="579132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6080" y="304920"/>
            <a:ext cx="8876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" y="1371600"/>
            <a:ext cx="79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800" y="2666880"/>
            <a:ext cx="4304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404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4880" y="2666880"/>
            <a:ext cx="6469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692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2000" y="3809880"/>
            <a:ext cx="636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00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2000" y="4800600"/>
            <a:ext cx="819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120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256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375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498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" y="579132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080" y="304920"/>
            <a:ext cx="8876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" y="1371600"/>
            <a:ext cx="79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4800" y="2666880"/>
            <a:ext cx="4304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404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4880" y="2666880"/>
            <a:ext cx="6469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69280" y="2666880"/>
            <a:ext cx="64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41:08Z</dcterms:created>
  <dc:creator>Caroline Cassels</dc:creator>
  <dc:description/>
  <dc:language>en-US</dc:language>
  <cp:lastModifiedBy>Caroline Cassels</cp:lastModifiedBy>
  <dcterms:modified xsi:type="dcterms:W3CDTF">2007-01-21T21:49:08Z</dcterms:modified>
  <cp:revision>2</cp:revision>
  <dc:subject/>
  <dc:title>numbers</dc:title>
</cp:coreProperties>
</file>